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931-C958-44D9-948E-7750FC7E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ies are arranged in a hierarchical structure. Lower levels in the organizational structure can “inherit” the policies specified at highe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ly, if  required, policies might be overrideable at lower levels. So a policy might cover the whole enterprise, or they might be amendable on a departmental or individual ba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define Content Security. An analogy with an international traveler at an airport sums it up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are likely to be an important part of our security strategy. They fulfill the role of the the passport controller or the immigration officer, asking the question “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is allowed into or out of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also needed however is something that fulfills the role of the customs official or X-ray scanning machine  -  “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should be allowed in, out of or around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essentially is the role of Content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ake a look at what 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vo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P survey of 715 professionals, found that staff were unable to resist temptation of emails that may contain sexist, racist, discriminatory or pornographic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 IT staff 69% likely to open dubious emails at work and 42% forwarding onto colle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DFC-E6F8-4801-A395-247CDCC7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20A-27A8-48A7-ADC0-2690E35A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470-913B-4680-894B-5F0C06A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189-A0A7-4D30-8C90-A69C27A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145-16FE-4489-AEFF-5D08A38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6782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604-9138-47D3-B116-A4DE6F4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FA8-F051-42F0-A8ED-EF08FBD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47B-D299-4F1E-A72A-C2D0546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C66-1B15-43D5-92B1-1B430C5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B0A-47FC-4AB8-8CE6-40841AD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B93-56BB-409D-8592-62B8853E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69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46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69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46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2CE-C65C-4C1D-A415-A0EEED93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6782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slide3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990720"/>
            <a:ext cx="6553080" cy="0"/>
          </a:xfrm>
          <a:prstGeom prst="line">
            <a:avLst/>
          </a:prstGeom>
          <a:ln w="9360">
            <a:solidFill>
              <a:srgbClr val="006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3" descr=""/>
          <p:cNvPicPr/>
          <p:nvPr/>
        </p:nvPicPr>
        <p:blipFill>
          <a:blip r:embed="rId2"/>
          <a:srcRect l="49167" t="0" r="0" b="21124"/>
          <a:stretch/>
        </p:blipFill>
        <p:spPr>
          <a:xfrm>
            <a:off x="3959280" y="0"/>
            <a:ext cx="5172120" cy="6019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A6C-1264-4194-86C0-A9FEF110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lide4" descr=""/>
          <p:cNvPicPr/>
          <p:nvPr/>
        </p:nvPicPr>
        <p:blipFill>
          <a:blip r:embed="rId3"/>
          <a:srcRect l="18344" t="67770" r="44169" b="3354"/>
          <a:stretch/>
        </p:blipFill>
        <p:spPr>
          <a:xfrm>
            <a:off x="609480" y="4952880"/>
            <a:ext cx="2895840" cy="167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8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1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W twoim systemie bezpieczeństwa jest luka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1704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Grzegorz Blinowski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2c8"/>
                </a:solidFill>
                <a:latin typeface="Arial"/>
              </a:rPr>
              <a:t>grzegorz.blinowski@cc.com.pl</a:t>
            </a:r>
            <a:endParaRPr b="1" lang="en-US" sz="16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CC Otwarte Systemy Komputerowe Sp. z o.o.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Clearswift Premium Partner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Century Gothic"/>
              </a:rPr>
              <a:t>Kto przesyła co i do kogo?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przykład raport finansow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łany przez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yrektora finansowe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dy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ysłany przez kogoś z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ziału sprzedaż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onkure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Zagrożeni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czta elektronicz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dużycia - korzystanie niezgodnie 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zeznacz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yciek poufnych infor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powiedzialność praw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niszczenie i uszkodzenie danych - np. wir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nografia, inne "nieproduktywn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niszczenie i uszkodzenie danych (Virus, Java, Active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151000">
            <a:off x="1567080" y="2373840"/>
            <a:ext cx="617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Polityk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bezpieczeństw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503400" y="1319040"/>
            <a:ext cx="2634480" cy="4455720"/>
            <a:chOff x="6503400" y="1319040"/>
            <a:chExt cx="2634480" cy="4455720"/>
          </a:xfrm>
        </p:grpSpPr>
        <p:sp>
          <p:nvSpPr>
            <p:cNvPr id="156" name=""/>
            <p:cNvSpPr/>
            <p:nvPr/>
          </p:nvSpPr>
          <p:spPr>
            <a:xfrm>
              <a:off x="6503400" y="1319040"/>
              <a:ext cx="26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agrożenie integralności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eci    Bizne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162200" y="1994760"/>
              <a:ext cx="1050120" cy="3780000"/>
              <a:chOff x="7162200" y="1994760"/>
              <a:chExt cx="1050120" cy="378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7162200" y="199476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63560" y="199476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63560" y="359316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62200" y="359316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63560" y="241164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63560" y="324540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62200" y="324540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63560" y="282852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63560" y="491328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63560" y="540000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62200" y="540000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ie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rogramowanie antywirusowe i system firewall to tylko części układan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usy typu "worm" (Melissa, ILY, Code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hrona pasma sieci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ści obraźliwe, pornograficzne, rasitow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typów przesyłanych pl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treści przesyłanych pl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Oprogramowanie AV i firewall ?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cc"/>
                </a:solidFill>
                <a:latin typeface="Century Gothic"/>
              </a:rPr>
              <a:t>Rozwiązani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3 x E, albo 3 x W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zy kluczowe etapy wprowadzenia polityki bezpieczeństwa treści w organizacji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blish - Wdroż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ucate - Wykształcenie (użytkownikó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force - Wymuszenie (polityki bezpieczeńst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Zróżnicowanie polityki bezpieczeństw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63640" y="4797360"/>
            <a:ext cx="1476360" cy="1095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1171440" cy="1512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391520" y="4800600"/>
            <a:ext cx="1280880" cy="16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238880" y="1905120"/>
            <a:ext cx="1403640" cy="1081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 rot="20113800">
            <a:off x="3564000" y="5084280"/>
            <a:ext cx="1008000" cy="27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 rot="1109400">
            <a:off x="1476000" y="1969560"/>
            <a:ext cx="863640" cy="231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 rot="1156800">
            <a:off x="1403280" y="2491920"/>
            <a:ext cx="863640" cy="231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 rot="19432800">
            <a:off x="3276360" y="4581000"/>
            <a:ext cx="1008000" cy="27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611280" y="148428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 rot="20064600">
            <a:off x="5651280" y="2781360"/>
            <a:ext cx="1906560" cy="588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tretch/>
        </p:blipFill>
        <p:spPr>
          <a:xfrm rot="2452200">
            <a:off x="5724000" y="4581360"/>
            <a:ext cx="1746360" cy="51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tretch/>
        </p:blipFill>
        <p:spPr>
          <a:xfrm rot="1747200">
            <a:off x="3492000" y="3068280"/>
            <a:ext cx="95436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219320"/>
            <a:ext cx="861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tyka bezpieczeństwa stworzona dla danego poziomu organizacyjnego jest dziedziczona przez poziomy niż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 razie potrzeby polityka dla  poziomu niższego może mieć wyższy priorytet niż polityka ogó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żliwe jest wdrożenie polityki "prewencyjnej" dotyczącej całej organizacji a następnie dalsze jej uszczegóławianie w departamentach, działach, itp. - aż do poziomu konkretnych osób (jeśli jest taka potrz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Hierarchiczność i dziedziczenie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90" name="granularpolicybasedrules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520992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zyszczenie i rekompozycj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6668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łączone archiwum ZIP zawiera dokume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60020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mail z załączniki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581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Jeden z dokumentów jest zawirusow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zysz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8195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tworzenie archiwum 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star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waranta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6095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owanie 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4724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nięc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quarantine" descr=""/>
          <p:cNvPicPr/>
          <p:nvPr/>
        </p:nvPicPr>
        <p:blipFill>
          <a:blip r:embed="rId1"/>
          <a:stretch/>
        </p:blipFill>
        <p:spPr>
          <a:xfrm>
            <a:off x="3124080" y="5715000"/>
            <a:ext cx="7398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zipfile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106668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mail" descr=""/>
          <p:cNvPicPr/>
          <p:nvPr/>
        </p:nvPicPr>
        <p:blipFill>
          <a:blip r:embed="rId3"/>
          <a:stretch/>
        </p:blipFill>
        <p:spPr>
          <a:xfrm>
            <a:off x="762120" y="1523880"/>
            <a:ext cx="55548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mail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55548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contentdocanalysis" descr=""/>
          <p:cNvPicPr/>
          <p:nvPr/>
        </p:nvPicPr>
        <p:blipFill>
          <a:blip r:embed="rId5"/>
          <a:stretch/>
        </p:blipFill>
        <p:spPr>
          <a:xfrm>
            <a:off x="2057400" y="4191120"/>
            <a:ext cx="1284120" cy="831600"/>
          </a:xfrm>
          <a:prstGeom prst="rect">
            <a:avLst/>
          </a:prstGeom>
          <a:ln w="0">
            <a:noFill/>
          </a:ln>
        </p:spPr>
      </p:pic>
      <p:pic>
        <p:nvPicPr>
          <p:cNvPr id="206" name="mail" descr=""/>
          <p:cNvPicPr/>
          <p:nvPr/>
        </p:nvPicPr>
        <p:blipFill>
          <a:blip r:embed="rId6"/>
          <a:stretch/>
        </p:blipFill>
        <p:spPr>
          <a:xfrm>
            <a:off x="1066680" y="5502240"/>
            <a:ext cx="555840" cy="60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54100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arrow" descr=""/>
          <p:cNvPicPr/>
          <p:nvPr/>
        </p:nvPicPr>
        <p:blipFill>
          <a:blip r:embed="rId7"/>
          <a:stretch/>
        </p:blipFill>
        <p:spPr>
          <a:xfrm>
            <a:off x="3124080" y="4343400"/>
            <a:ext cx="2000520" cy="536400"/>
          </a:xfrm>
          <a:prstGeom prst="rect">
            <a:avLst/>
          </a:prstGeom>
          <a:ln w="0">
            <a:noFill/>
          </a:ln>
        </p:spPr>
      </p:pic>
      <p:pic>
        <p:nvPicPr>
          <p:cNvPr id="209" name="arrow_left" descr=""/>
          <p:cNvPicPr/>
          <p:nvPr/>
        </p:nvPicPr>
        <p:blipFill>
          <a:blip r:embed="rId8"/>
          <a:stretch/>
        </p:blipFill>
        <p:spPr>
          <a:xfrm>
            <a:off x="1219320" y="45720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arrow_right" descr=""/>
          <p:cNvPicPr/>
          <p:nvPr/>
        </p:nvPicPr>
        <p:blipFill>
          <a:blip r:embed="rId9"/>
          <a:stretch/>
        </p:blipFill>
        <p:spPr>
          <a:xfrm>
            <a:off x="2743200" y="4800600"/>
            <a:ext cx="80028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zipfile" descr=""/>
          <p:cNvPicPr/>
          <p:nvPr/>
        </p:nvPicPr>
        <p:blipFill>
          <a:blip r:embed="rId10"/>
          <a:stretch/>
        </p:blipFill>
        <p:spPr>
          <a:xfrm>
            <a:off x="6400800" y="2666880"/>
            <a:ext cx="1066680" cy="765360"/>
          </a:xfrm>
          <a:prstGeom prst="rect">
            <a:avLst/>
          </a:prstGeom>
          <a:ln w="0">
            <a:noFill/>
          </a:ln>
        </p:spPr>
      </p:pic>
      <p:pic>
        <p:nvPicPr>
          <p:cNvPr id="212" name="arrow_up" descr=""/>
          <p:cNvPicPr/>
          <p:nvPr/>
        </p:nvPicPr>
        <p:blipFill>
          <a:blip r:embed="rId11"/>
          <a:stretch/>
        </p:blipFill>
        <p:spPr>
          <a:xfrm>
            <a:off x="7162920" y="2133720"/>
            <a:ext cx="342720" cy="1050840"/>
          </a:xfrm>
          <a:prstGeom prst="rect">
            <a:avLst/>
          </a:prstGeom>
          <a:ln w="0">
            <a:noFill/>
          </a:ln>
        </p:spPr>
      </p:pic>
      <p:pic>
        <p:nvPicPr>
          <p:cNvPr id="213" name="virus" descr=""/>
          <p:cNvPicPr/>
          <p:nvPr/>
        </p:nvPicPr>
        <p:blipFill>
          <a:blip r:embed="rId12"/>
          <a:stretch/>
        </p:blipFill>
        <p:spPr>
          <a:xfrm>
            <a:off x="5943600" y="3733920"/>
            <a:ext cx="1128600" cy="115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5880" y="3962520"/>
            <a:ext cx="765360" cy="711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rrow_up" descr=""/>
          <p:cNvPicPr/>
          <p:nvPr/>
        </p:nvPicPr>
        <p:blipFill>
          <a:blip r:embed="rId13"/>
          <a:stretch/>
        </p:blipFill>
        <p:spPr>
          <a:xfrm>
            <a:off x="6934320" y="3429000"/>
            <a:ext cx="342720" cy="1050840"/>
          </a:xfrm>
          <a:prstGeom prst="rect">
            <a:avLst/>
          </a:prstGeom>
          <a:ln w="0">
            <a:noFill/>
          </a:ln>
        </p:spPr>
      </p:pic>
      <p:pic>
        <p:nvPicPr>
          <p:cNvPr id="216" name="arrow_down2" descr=""/>
          <p:cNvPicPr/>
          <p:nvPr/>
        </p:nvPicPr>
        <p:blipFill>
          <a:blip r:embed="rId14"/>
          <a:stretch/>
        </p:blipFill>
        <p:spPr>
          <a:xfrm>
            <a:off x="1447920" y="3429000"/>
            <a:ext cx="606240" cy="1200240"/>
          </a:xfrm>
          <a:prstGeom prst="rect">
            <a:avLst/>
          </a:prstGeom>
          <a:ln w="0">
            <a:noFill/>
          </a:ln>
        </p:spPr>
      </p:pic>
      <p:pic>
        <p:nvPicPr>
          <p:cNvPr id="217" name="arrow_down2" descr=""/>
          <p:cNvPicPr/>
          <p:nvPr/>
        </p:nvPicPr>
        <p:blipFill>
          <a:blip r:embed="rId15"/>
          <a:stretch/>
        </p:blipFill>
        <p:spPr>
          <a:xfrm>
            <a:off x="685800" y="1905120"/>
            <a:ext cx="606600" cy="1199880"/>
          </a:xfrm>
          <a:prstGeom prst="rect">
            <a:avLst/>
          </a:prstGeom>
          <a:ln w="0">
            <a:noFill/>
          </a:ln>
        </p:spPr>
      </p:pic>
      <p:pic>
        <p:nvPicPr>
          <p:cNvPr id="218" name="arrow_right2" descr=""/>
          <p:cNvPicPr/>
          <p:nvPr/>
        </p:nvPicPr>
        <p:blipFill>
          <a:blip r:embed="rId16"/>
          <a:stretch/>
        </p:blipFill>
        <p:spPr>
          <a:xfrm>
            <a:off x="6019920" y="480060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219" name="bin" descr=""/>
          <p:cNvPicPr/>
          <p:nvPr/>
        </p:nvPicPr>
        <p:blipFill>
          <a:blip r:embed="rId17"/>
          <a:stretch/>
        </p:blipFill>
        <p:spPr>
          <a:xfrm>
            <a:off x="5029200" y="4952880"/>
            <a:ext cx="639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Przykładowe wdrożenie - </a:t>
            </a:r>
            <a:r>
              <a:rPr b="1" lang="en-US" sz="2000" spc="-1" strike="noStrike">
                <a:solidFill>
                  <a:srgbClr val="0062c8"/>
                </a:solidFill>
                <a:latin typeface="Century Gothic"/>
              </a:rPr>
              <a:t>"case study"</a:t>
            </a:r>
            <a:endParaRPr b="1" lang="en-US" sz="20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82480" y="1312920"/>
            <a:ext cx="835992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zta wchodzą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ys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słownikowe - "profan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antywirusowe dwoma programami AV (równole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zta wychodzą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słownikowe na słowa kluczowe ("poufne", "tajne"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ierz uprawnień "kto - do kog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antywirusowe dwoma programami AV (równole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różnicowanie polity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zystkich pracowników obowiązują te same regu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jątki: wybrani pracownicy IT, zarząd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ortowanie (np. statystyki wirus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281952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odzina produktów MIMEsweeper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27672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Do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S_ExchangeBox_mini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4764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CS_ExchangeBox_mini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647640" cy="838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37160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1116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CS_WEBsweeperBox_mini" descr=""/>
          <p:cNvPicPr/>
          <p:nvPr/>
        </p:nvPicPr>
        <p:blipFill>
          <a:blip r:embed="rId3"/>
          <a:stretch/>
        </p:blipFill>
        <p:spPr>
          <a:xfrm>
            <a:off x="1422360" y="1828800"/>
            <a:ext cx="635040" cy="822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426708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&amp; 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10552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556272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RET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05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CS_IMAGEmanagerBox" descr=""/>
          <p:cNvPicPr/>
          <p:nvPr/>
        </p:nvPicPr>
        <p:blipFill>
          <a:blip r:embed="rId4"/>
          <a:stretch/>
        </p:blipFill>
        <p:spPr>
          <a:xfrm>
            <a:off x="736560" y="1828800"/>
            <a:ext cx="635040" cy="822240"/>
          </a:xfrm>
          <a:prstGeom prst="rect">
            <a:avLst/>
          </a:prstGeom>
          <a:ln w="0">
            <a:noFill/>
          </a:ln>
        </p:spPr>
      </p:pic>
      <p:pic>
        <p:nvPicPr>
          <p:cNvPr id="239" name="CS_IMAGEmanagerBox" descr=""/>
          <p:cNvPicPr/>
          <p:nvPr/>
        </p:nvPicPr>
        <p:blipFill>
          <a:blip r:embed="rId5"/>
          <a:stretch/>
        </p:blipFill>
        <p:spPr>
          <a:xfrm>
            <a:off x="685800" y="5562720"/>
            <a:ext cx="635040" cy="822240"/>
          </a:xfrm>
          <a:prstGeom prst="rect">
            <a:avLst/>
          </a:prstGeom>
          <a:ln w="0">
            <a:noFill/>
          </a:ln>
        </p:spPr>
      </p:pic>
      <p:pic>
        <p:nvPicPr>
          <p:cNvPr id="240" name="CS_IMAGEmanagerBox" descr=""/>
          <p:cNvPicPr/>
          <p:nvPr/>
        </p:nvPicPr>
        <p:blipFill>
          <a:blip r:embed="rId6"/>
          <a:stretch/>
        </p:blipFill>
        <p:spPr>
          <a:xfrm>
            <a:off x="1371600" y="5578560"/>
            <a:ext cx="63504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Agend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egląd zagadnień "Content Security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ka w korporacyjnych systemach zabezpiecz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zwią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erta Clearsw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Produkty Clearswift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1954080"/>
            <a:ext cx="464832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poczty na głównej bram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SM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IMAGE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SECRET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e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ruchu WW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WEB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poczty wewnętrzne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Do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3381480" cy="890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270080"/>
            <a:ext cx="3735360" cy="5587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46040" cy="4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343400" y="3733920"/>
            <a:ext cx="428760" cy="420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343400" y="4343400"/>
            <a:ext cx="439560" cy="422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większy dostawca rozwiązań Content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,000+ klient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 millionów+ użytkow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 z 64 najwiekszych ban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zystkie z 10 nawiększych firm pra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0% firm z FTSE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firm z grupy Global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eferencje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6002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2c8"/>
                </a:solidFill>
                <a:latin typeface="Century Gothic"/>
              </a:rPr>
              <a:t>Clearswif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6720" y="1492200"/>
            <a:ext cx="3935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paszportow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dostę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470560"/>
            <a:ext cx="3962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chodzi i wychodz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2c8"/>
                </a:solidFill>
                <a:latin typeface="Century Gothic"/>
              </a:rPr>
              <a:t>Kontrola dostępu kontra Content Security</a:t>
            </a:r>
            <a:endParaRPr b="1" lang="en-US" sz="24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97" name="manager" descr=""/>
          <p:cNvPicPr/>
          <p:nvPr/>
        </p:nvPicPr>
        <p:blipFill>
          <a:blip r:embed="rId1"/>
          <a:stretch/>
        </p:blipFill>
        <p:spPr>
          <a:xfrm>
            <a:off x="12193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98" name="passport_scan" descr=""/>
          <p:cNvPicPr/>
          <p:nvPr/>
        </p:nvPicPr>
        <p:blipFill>
          <a:blip r:embed="rId2"/>
          <a:stretch/>
        </p:blipFill>
        <p:spPr>
          <a:xfrm>
            <a:off x="2362320" y="2819520"/>
            <a:ext cx="1212840" cy="221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7120" y="1492200"/>
            <a:ext cx="2845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Celn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470560"/>
            <a:ext cx="3429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nosi i wynos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54760" y="3397320"/>
            <a:ext cx="6969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57d6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2c8"/>
                </a:solidFill>
                <a:latin typeface="Century Gothic"/>
              </a:rPr>
              <a:t>Kontrola dostępu kontra Content Security</a:t>
            </a:r>
            <a:endParaRPr b="1" lang="en-US" sz="24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03" name="manager" descr=""/>
          <p:cNvPicPr/>
          <p:nvPr/>
        </p:nvPicPr>
        <p:blipFill>
          <a:blip r:embed="rId1"/>
          <a:stretch/>
        </p:blipFill>
        <p:spPr>
          <a:xfrm>
            <a:off x="12193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104" name="manager" descr=""/>
          <p:cNvPicPr/>
          <p:nvPr/>
        </p:nvPicPr>
        <p:blipFill>
          <a:blip r:embed="rId2"/>
          <a:stretch/>
        </p:blipFill>
        <p:spPr>
          <a:xfrm>
            <a:off x="51055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_scan" descr=""/>
          <p:cNvPicPr/>
          <p:nvPr/>
        </p:nvPicPr>
        <p:blipFill>
          <a:blip r:embed="rId3"/>
          <a:stretch/>
        </p:blipFill>
        <p:spPr>
          <a:xfrm>
            <a:off x="2362320" y="2819520"/>
            <a:ext cx="1212840" cy="2219040"/>
          </a:xfrm>
          <a:prstGeom prst="rect">
            <a:avLst/>
          </a:prstGeom>
          <a:ln w="0">
            <a:noFill/>
          </a:ln>
        </p:spPr>
      </p:pic>
      <p:pic>
        <p:nvPicPr>
          <p:cNvPr id="106" name="passport_scan" descr=""/>
          <p:cNvPicPr/>
          <p:nvPr/>
        </p:nvPicPr>
        <p:blipFill>
          <a:blip r:embed="rId4"/>
          <a:stretch/>
        </p:blipFill>
        <p:spPr>
          <a:xfrm>
            <a:off x="6858000" y="2809800"/>
            <a:ext cx="121284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suitcase" descr=""/>
          <p:cNvPicPr/>
          <p:nvPr/>
        </p:nvPicPr>
        <p:blipFill>
          <a:blip r:embed="rId5"/>
          <a:stretch/>
        </p:blipFill>
        <p:spPr>
          <a:xfrm>
            <a:off x="5867280" y="4292640"/>
            <a:ext cx="866880" cy="5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5470560"/>
            <a:ext cx="3962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chodzi i wychodz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720" y="1492200"/>
            <a:ext cx="3935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paszportow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dostę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Wykorzystanie poczty elektronicznej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wioobieg współczesnego przedsiębior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wałtowny wzrost liczby przesył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wałtowny wzrost  rozmiaru przesyłek - załączniki!       (3-5 krotny przyrost w ciągu roku [Ferris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ża firma - 4,000 użytkowni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 000 wiadomości z Internetu dzie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0 000 wiadomości w poczcie wewnętrznej dzie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e można oczekiwać określonych zachowań pracowników (np. nie otwierać podejrzanych załącznik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Wykorzystnie usług Web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stęp pracowników do serwisów WWW w przeważającej liczbie przypadków jest wymag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Z dobrodziejstwem inwentarza" uzyskują dostęp do: usług WebMail, anonimowych proxy oraz innych "interesujących" serwis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% prywatnych transakcji e-commerce jest wykonywanych w miejscu i godzinach pracy (I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 firmie zatrudniającej 1 000 użytkowników,  jedna godzina "surfowania" dziennie to strata 35 mln $ rocznie dla firmy (Saratoga Inst Human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yzyko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04320" cy="6476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48520" y="1665360"/>
            <a:ext cx="213336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666800"/>
            <a:ext cx="28414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owiedzialność praw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73920" y="4687920"/>
            <a:ext cx="649080" cy="3207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684680"/>
            <a:ext cx="10000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5165640"/>
            <a:ext cx="1936800" cy="336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181480"/>
            <a:ext cx="251460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ta produktyw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6640" y="5646600"/>
            <a:ext cx="2209680" cy="3510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8720" y="5662440"/>
            <a:ext cx="259884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ta wydaj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30440" y="1654200"/>
            <a:ext cx="1197000" cy="3794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" y="1668600"/>
            <a:ext cx="266724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hrona antywirus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960" y="2125800"/>
            <a:ext cx="1600200" cy="382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4440" y="2131920"/>
            <a:ext cx="12337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ufn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630520"/>
            <a:ext cx="1538280" cy="357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20" y="2629080"/>
            <a:ext cx="18511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ow. praw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86280"/>
            <a:ext cx="1584360" cy="3729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" y="3117960"/>
            <a:ext cx="18748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ści obraźli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4199040"/>
            <a:ext cx="982800" cy="357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99040"/>
            <a:ext cx="18748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łown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" y="4686480"/>
            <a:ext cx="1311120" cy="342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" y="4656240"/>
            <a:ext cx="18745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iza obraz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" y="5157720"/>
            <a:ext cx="1783080" cy="3747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197320"/>
            <a:ext cx="232416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iza typu da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41360" y="5654520"/>
            <a:ext cx="1203480" cy="3589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360" y="5654520"/>
            <a:ext cx="239256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ykrycie enkryp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rot="571200">
            <a:off x="1891800" y="2951280"/>
            <a:ext cx="5815080" cy="175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lls Royce wyrzuca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ób za nadużycie pocz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ektroni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NUnet.com Maj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2160" y="2163600"/>
            <a:ext cx="7594920" cy="175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racownik Della wyrzucony 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ozpowszechnainie pornografii przez e-mail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www.silicon.com, Lipi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951600">
            <a:off x="329760" y="2882880"/>
            <a:ext cx="854712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igant telekomunikacyjny Orange wyrzu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z pracy 30 - 40 osób za sciąganie  materia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ornograficznych z Internetu i rozpowszechni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ch wewnątrz firmy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ww.msn.co.uk, Sierp.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71440" y="3208320"/>
            <a:ext cx="6821640" cy="201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nisterstwo Obrony Wlk. Brytan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zawiesza pracowników, któ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iągneli z internetu 17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ików z pornograf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Times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750400">
            <a:off x="382680" y="3406320"/>
            <a:ext cx="8761320" cy="21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ywilna pracownica londyńskiej poli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uzyskuje w sądzie £40,000  odszkodowania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ytułu e-mailowego molestow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eksualnego przez kolegę z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www.theregister.co.uk, Lipiec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951600">
            <a:off x="1580760" y="2322360"/>
            <a:ext cx="6858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zha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kerzy włamali się poprz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"konia trojańskiego" w przesyłce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NET.com Październik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04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Złe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ontent Security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ymagania dotyczące ochrony tre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hrona własności intelektual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a kli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yniki finan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y strateg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e informacje poufn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hrona jest wymagana, gdyż problem stanowi mobilność tre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5454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Kt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przesyła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c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 do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ko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1:36:22Z</dcterms:created>
  <dc:creator>philipr</dc:creator>
  <dc:description/>
  <dc:language>en-US</dc:language>
  <cp:lastModifiedBy>gb</cp:lastModifiedBy>
  <dcterms:modified xsi:type="dcterms:W3CDTF">2003-02-20T18:41:46Z</dcterms:modified>
  <cp:revision>125</cp:revision>
  <dc:subject/>
  <dc:title>No Slide Title</dc:title>
</cp:coreProperties>
</file>