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1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75B4-0BB0-4C46-936E-DA4C85B97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icies are arranged in a hierarchical structure. Lower levels in the organizational structure can “inherit” the policies specified at higher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vely, if  required, policies might be overrideable at lower levels. So a policy might cover the whole enterprise, or they might be amendable on a departmental or individual ba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define Content Security. An analogy with an international traveler at an airport sums it up we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walls are likely to be an important part of our security strategy. They fulfill the role of the the passport controller or the immigration officer, asking the question “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Wh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” is allowed into or out of the net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also needed however is something that fulfills the role of the customs official or X-ray scanning machine  -  “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Wh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” should be allowed in, out of or around the net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essentially is the role of Content Secu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take a look at what this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Wh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vol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P survey of 715 professionals, found that staff were unable to resist temptation of emails that may contain sexist, racist, discriminatory or pornographic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 IT staff 69% likely to open dubious emails at work and 42% forwarding onto colleag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9C42-C459-4D47-8F7F-2971BBAE7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2c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0829-9787-4CBF-B89E-626283EE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24A7-CA90-4447-BB55-56140028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2876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BD73-CC42-4569-B6A5-D20587E2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7EA0-2E87-400A-9B5C-572ABB2C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52120" y="304560"/>
            <a:ext cx="6782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2c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1A61-61F2-4900-B4D7-E42834AB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876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2897-FB44-4703-84FA-C57B10F3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2c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87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2876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75D3-5A11-4C47-8DDF-2070D208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287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C3D4-17B3-43B4-B51F-B408896A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0421-DC03-4CC5-8EC0-F8AA3889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87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2876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EDD7-BA6D-4703-A7D7-36D631726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6696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14600" y="198108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6696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14600" y="4130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21D2-E4F3-4B16-890F-220F1B44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752120" y="304560"/>
            <a:ext cx="67820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2c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4130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98108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Newslide3" descr=""/>
          <p:cNvPicPr/>
          <p:nvPr/>
        </p:nvPicPr>
        <p:blipFill>
          <a:blip r:embed="rId2"/>
          <a:stretch/>
        </p:blipFill>
        <p:spPr>
          <a:xfrm>
            <a:off x="0" y="-76320"/>
            <a:ext cx="9144000" cy="685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2c8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90920" y="990720"/>
            <a:ext cx="6553080" cy="0"/>
          </a:xfrm>
          <a:prstGeom prst="line">
            <a:avLst/>
          </a:prstGeom>
          <a:ln w="9360">
            <a:solidFill>
              <a:srgbClr val="006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slide3" descr=""/>
          <p:cNvPicPr/>
          <p:nvPr/>
        </p:nvPicPr>
        <p:blipFill>
          <a:blip r:embed="rId2"/>
          <a:srcRect l="49167" t="0" r="0" b="21124"/>
          <a:stretch/>
        </p:blipFill>
        <p:spPr>
          <a:xfrm>
            <a:off x="3959280" y="0"/>
            <a:ext cx="5172120" cy="60199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7BF5-573B-4283-B4F7-D68D26FDE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lide4" descr=""/>
          <p:cNvPicPr/>
          <p:nvPr/>
        </p:nvPicPr>
        <p:blipFill>
          <a:blip r:embed="rId3"/>
          <a:srcRect l="18344" t="67770" r="44169" b="3354"/>
          <a:stretch/>
        </p:blipFill>
        <p:spPr>
          <a:xfrm>
            <a:off x="609480" y="4952880"/>
            <a:ext cx="2895840" cy="1673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2c8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62c8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8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3.png"/><Relationship Id="rId7" Type="http://schemas.openxmlformats.org/officeDocument/2006/relationships/image" Target="../media/image1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2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7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599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W twoim systemie bezpieczeństwa jest luka!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17048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2c8"/>
                </a:solidFill>
                <a:latin typeface="Arial"/>
              </a:rPr>
              <a:t>Grzegorz Blinowski</a:t>
            </a:r>
            <a:endParaRPr b="1" lang="en-US" sz="2000" spc="-1" strike="noStrike">
              <a:solidFill>
                <a:srgbClr val="0062c8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2c8"/>
                </a:solidFill>
                <a:latin typeface="Arial"/>
              </a:rPr>
              <a:t>grzegorz.blinowski@cc.com.pl</a:t>
            </a:r>
            <a:endParaRPr b="1" lang="en-US" sz="1600" spc="-1" strike="noStrike">
              <a:solidFill>
                <a:srgbClr val="0062c8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2c8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2c8"/>
                </a:solidFill>
                <a:latin typeface="Arial"/>
              </a:rPr>
              <a:t>CC Otwarte Systemy Komputerowe Sp. z o.o.</a:t>
            </a:r>
            <a:endParaRPr b="1" lang="en-US" sz="2000" spc="-1" strike="noStrike">
              <a:solidFill>
                <a:srgbClr val="0062c8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2c8"/>
                </a:solidFill>
                <a:latin typeface="Arial"/>
              </a:rPr>
              <a:t>Clearswift Premium Partner</a:t>
            </a:r>
            <a:endParaRPr b="1" lang="en-US" sz="2000" spc="-1" strike="noStrike">
              <a:solidFill>
                <a:srgbClr val="0062c8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Century Gothic"/>
              </a:rPr>
              <a:t>Kto przesyła co i do kogo?</a:t>
            </a: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91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 przykład raport finansowy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zesłany przez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dyrektora finansoweg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o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udyt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90000"/>
              <a:buFont typeface="Web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ysłany przez kogoś z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działu sprzedaż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o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konkuren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2c8"/>
                </a:solidFill>
                <a:latin typeface="Century Gothic"/>
              </a:rPr>
              <a:t>Zagrożenia</a:t>
            </a: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oczta elektroniczn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dużycia - korzystanie niezgodnie z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zeznaczeni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yciek poufnych inform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dpowiedzialność praw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niszczenie i uszkodzenie danych - np. wiru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rnografia, inne "nieproduktywn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spcBef>
                <a:spcPts val="451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niszczenie i uszkodzenie danych (Virus, Java, ActiveX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20151000">
            <a:off x="1567080" y="2373840"/>
            <a:ext cx="6171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0000"/>
                </a:solidFill>
                <a:latin typeface="Times New Roman"/>
              </a:rPr>
              <a:t>Polityk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0000"/>
                </a:solidFill>
                <a:latin typeface="Times New Roman"/>
              </a:rPr>
              <a:t>bezpieczeństw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6503400" y="1319040"/>
            <a:ext cx="2634480" cy="4455720"/>
            <a:chOff x="6503400" y="1319040"/>
            <a:chExt cx="2634480" cy="4455720"/>
          </a:xfrm>
        </p:grpSpPr>
        <p:sp>
          <p:nvSpPr>
            <p:cNvPr id="156" name=""/>
            <p:cNvSpPr/>
            <p:nvPr/>
          </p:nvSpPr>
          <p:spPr>
            <a:xfrm>
              <a:off x="6503400" y="1319040"/>
              <a:ext cx="263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Zagrożenie integralności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Sieci    Biznes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7162200" y="1994760"/>
              <a:ext cx="1050120" cy="3780000"/>
              <a:chOff x="7162200" y="1994760"/>
              <a:chExt cx="1050120" cy="3780000"/>
            </a:xfrm>
          </p:grpSpPr>
          <p:sp>
            <p:nvSpPr>
              <p:cNvPr id="158" name=""/>
              <p:cNvSpPr/>
              <p:nvPr/>
            </p:nvSpPr>
            <p:spPr>
              <a:xfrm>
                <a:off x="7162200" y="1994760"/>
                <a:ext cx="249120" cy="374760"/>
              </a:xfrm>
              <a:custGeom>
                <a:avLst/>
                <a:gdLst/>
                <a:ahLst/>
                <a:rect l="l" t="t" r="r" b="b"/>
                <a:pathLst>
                  <a:path w="1314" h="2085">
                    <a:moveTo>
                      <a:pt x="148" y="972"/>
                    </a:moveTo>
                    <a:lnTo>
                      <a:pt x="0" y="1537"/>
                    </a:lnTo>
                    <a:lnTo>
                      <a:pt x="507" y="2085"/>
                    </a:lnTo>
                    <a:lnTo>
                      <a:pt x="1314" y="243"/>
                    </a:lnTo>
                    <a:lnTo>
                      <a:pt x="1314" y="0"/>
                    </a:lnTo>
                    <a:lnTo>
                      <a:pt x="414" y="1553"/>
                    </a:lnTo>
                    <a:lnTo>
                      <a:pt x="148" y="97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963560" y="1994760"/>
                <a:ext cx="248760" cy="374760"/>
              </a:xfrm>
              <a:custGeom>
                <a:avLst/>
                <a:gdLst/>
                <a:ahLst/>
                <a:rect l="l" t="t" r="r" b="b"/>
                <a:pathLst>
                  <a:path w="1314" h="2085">
                    <a:moveTo>
                      <a:pt x="148" y="972"/>
                    </a:moveTo>
                    <a:lnTo>
                      <a:pt x="0" y="1537"/>
                    </a:lnTo>
                    <a:lnTo>
                      <a:pt x="507" y="2085"/>
                    </a:lnTo>
                    <a:lnTo>
                      <a:pt x="1314" y="243"/>
                    </a:lnTo>
                    <a:lnTo>
                      <a:pt x="1314" y="0"/>
                    </a:lnTo>
                    <a:lnTo>
                      <a:pt x="414" y="1553"/>
                    </a:lnTo>
                    <a:lnTo>
                      <a:pt x="148" y="97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963560" y="3593160"/>
                <a:ext cx="248760" cy="374760"/>
              </a:xfrm>
              <a:custGeom>
                <a:avLst/>
                <a:gdLst/>
                <a:ahLst/>
                <a:rect l="l" t="t" r="r" b="b"/>
                <a:pathLst>
                  <a:path w="1314" h="2085">
                    <a:moveTo>
                      <a:pt x="148" y="972"/>
                    </a:moveTo>
                    <a:lnTo>
                      <a:pt x="0" y="1537"/>
                    </a:lnTo>
                    <a:lnTo>
                      <a:pt x="507" y="2085"/>
                    </a:lnTo>
                    <a:lnTo>
                      <a:pt x="1314" y="243"/>
                    </a:lnTo>
                    <a:lnTo>
                      <a:pt x="1314" y="0"/>
                    </a:lnTo>
                    <a:lnTo>
                      <a:pt x="414" y="1553"/>
                    </a:lnTo>
                    <a:lnTo>
                      <a:pt x="148" y="97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162200" y="3593160"/>
                <a:ext cx="249120" cy="374760"/>
              </a:xfrm>
              <a:custGeom>
                <a:avLst/>
                <a:gdLst/>
                <a:ahLst/>
                <a:rect l="l" t="t" r="r" b="b"/>
                <a:pathLst>
                  <a:path w="1314" h="2085">
                    <a:moveTo>
                      <a:pt x="148" y="972"/>
                    </a:moveTo>
                    <a:lnTo>
                      <a:pt x="0" y="1537"/>
                    </a:lnTo>
                    <a:lnTo>
                      <a:pt x="507" y="2085"/>
                    </a:lnTo>
                    <a:lnTo>
                      <a:pt x="1314" y="243"/>
                    </a:lnTo>
                    <a:lnTo>
                      <a:pt x="1314" y="0"/>
                    </a:lnTo>
                    <a:lnTo>
                      <a:pt x="414" y="1553"/>
                    </a:lnTo>
                    <a:lnTo>
                      <a:pt x="148" y="97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963560" y="2411640"/>
                <a:ext cx="248760" cy="374760"/>
              </a:xfrm>
              <a:custGeom>
                <a:avLst/>
                <a:gdLst/>
                <a:ahLst/>
                <a:rect l="l" t="t" r="r" b="b"/>
                <a:pathLst>
                  <a:path w="1314" h="2085">
                    <a:moveTo>
                      <a:pt x="148" y="972"/>
                    </a:moveTo>
                    <a:lnTo>
                      <a:pt x="0" y="1537"/>
                    </a:lnTo>
                    <a:lnTo>
                      <a:pt x="507" y="2085"/>
                    </a:lnTo>
                    <a:lnTo>
                      <a:pt x="1314" y="243"/>
                    </a:lnTo>
                    <a:lnTo>
                      <a:pt x="1314" y="0"/>
                    </a:lnTo>
                    <a:lnTo>
                      <a:pt x="414" y="1553"/>
                    </a:lnTo>
                    <a:lnTo>
                      <a:pt x="148" y="97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63560" y="3245400"/>
                <a:ext cx="248760" cy="374760"/>
              </a:xfrm>
              <a:custGeom>
                <a:avLst/>
                <a:gdLst/>
                <a:ahLst/>
                <a:rect l="l" t="t" r="r" b="b"/>
                <a:pathLst>
                  <a:path w="1314" h="2085">
                    <a:moveTo>
                      <a:pt x="148" y="972"/>
                    </a:moveTo>
                    <a:lnTo>
                      <a:pt x="0" y="1537"/>
                    </a:lnTo>
                    <a:lnTo>
                      <a:pt x="507" y="2085"/>
                    </a:lnTo>
                    <a:lnTo>
                      <a:pt x="1314" y="243"/>
                    </a:lnTo>
                    <a:lnTo>
                      <a:pt x="1314" y="0"/>
                    </a:lnTo>
                    <a:lnTo>
                      <a:pt x="414" y="1553"/>
                    </a:lnTo>
                    <a:lnTo>
                      <a:pt x="148" y="97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162200" y="3245400"/>
                <a:ext cx="249120" cy="374760"/>
              </a:xfrm>
              <a:custGeom>
                <a:avLst/>
                <a:gdLst/>
                <a:ahLst/>
                <a:rect l="l" t="t" r="r" b="b"/>
                <a:pathLst>
                  <a:path w="1314" h="2085">
                    <a:moveTo>
                      <a:pt x="148" y="972"/>
                    </a:moveTo>
                    <a:lnTo>
                      <a:pt x="0" y="1537"/>
                    </a:lnTo>
                    <a:lnTo>
                      <a:pt x="507" y="2085"/>
                    </a:lnTo>
                    <a:lnTo>
                      <a:pt x="1314" y="243"/>
                    </a:lnTo>
                    <a:lnTo>
                      <a:pt x="1314" y="0"/>
                    </a:lnTo>
                    <a:lnTo>
                      <a:pt x="414" y="1553"/>
                    </a:lnTo>
                    <a:lnTo>
                      <a:pt x="148" y="97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963560" y="2828520"/>
                <a:ext cx="248760" cy="374760"/>
              </a:xfrm>
              <a:custGeom>
                <a:avLst/>
                <a:gdLst/>
                <a:ahLst/>
                <a:rect l="l" t="t" r="r" b="b"/>
                <a:pathLst>
                  <a:path w="1314" h="2085">
                    <a:moveTo>
                      <a:pt x="148" y="972"/>
                    </a:moveTo>
                    <a:lnTo>
                      <a:pt x="0" y="1537"/>
                    </a:lnTo>
                    <a:lnTo>
                      <a:pt x="507" y="2085"/>
                    </a:lnTo>
                    <a:lnTo>
                      <a:pt x="1314" y="243"/>
                    </a:lnTo>
                    <a:lnTo>
                      <a:pt x="1314" y="0"/>
                    </a:lnTo>
                    <a:lnTo>
                      <a:pt x="414" y="1553"/>
                    </a:lnTo>
                    <a:lnTo>
                      <a:pt x="148" y="97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963560" y="4913280"/>
                <a:ext cx="248760" cy="374760"/>
              </a:xfrm>
              <a:custGeom>
                <a:avLst/>
                <a:gdLst/>
                <a:ahLst/>
                <a:rect l="l" t="t" r="r" b="b"/>
                <a:pathLst>
                  <a:path w="1314" h="2085">
                    <a:moveTo>
                      <a:pt x="148" y="972"/>
                    </a:moveTo>
                    <a:lnTo>
                      <a:pt x="0" y="1537"/>
                    </a:lnTo>
                    <a:lnTo>
                      <a:pt x="507" y="2085"/>
                    </a:lnTo>
                    <a:lnTo>
                      <a:pt x="1314" y="243"/>
                    </a:lnTo>
                    <a:lnTo>
                      <a:pt x="1314" y="0"/>
                    </a:lnTo>
                    <a:lnTo>
                      <a:pt x="414" y="1553"/>
                    </a:lnTo>
                    <a:lnTo>
                      <a:pt x="148" y="97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963560" y="5400000"/>
                <a:ext cx="248760" cy="374760"/>
              </a:xfrm>
              <a:custGeom>
                <a:avLst/>
                <a:gdLst/>
                <a:ahLst/>
                <a:rect l="l" t="t" r="r" b="b"/>
                <a:pathLst>
                  <a:path w="1314" h="2085">
                    <a:moveTo>
                      <a:pt x="148" y="972"/>
                    </a:moveTo>
                    <a:lnTo>
                      <a:pt x="0" y="1537"/>
                    </a:lnTo>
                    <a:lnTo>
                      <a:pt x="507" y="2085"/>
                    </a:lnTo>
                    <a:lnTo>
                      <a:pt x="1314" y="243"/>
                    </a:lnTo>
                    <a:lnTo>
                      <a:pt x="1314" y="0"/>
                    </a:lnTo>
                    <a:lnTo>
                      <a:pt x="414" y="1553"/>
                    </a:lnTo>
                    <a:lnTo>
                      <a:pt x="148" y="97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62200" y="5400000"/>
                <a:ext cx="249120" cy="374760"/>
              </a:xfrm>
              <a:custGeom>
                <a:avLst/>
                <a:gdLst/>
                <a:ahLst/>
                <a:rect l="l" t="t" r="r" b="b"/>
                <a:pathLst>
                  <a:path w="1314" h="2085">
                    <a:moveTo>
                      <a:pt x="148" y="972"/>
                    </a:moveTo>
                    <a:lnTo>
                      <a:pt x="0" y="1537"/>
                    </a:lnTo>
                    <a:lnTo>
                      <a:pt x="507" y="2085"/>
                    </a:lnTo>
                    <a:lnTo>
                      <a:pt x="1314" y="243"/>
                    </a:lnTo>
                    <a:lnTo>
                      <a:pt x="1314" y="0"/>
                    </a:lnTo>
                    <a:lnTo>
                      <a:pt x="414" y="1553"/>
                    </a:lnTo>
                    <a:lnTo>
                      <a:pt x="148" y="97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091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Nie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rogramowanie antywirusowe i system firewall to tylko części układank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rusy typu "worm" (Melissa, ILY, Code R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chrona pasma sieciow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ści obraźliwe, pornograficzne, rasitowsk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ontrola typów przesyłanych plikó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ontrola treści przesyłanych plikó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2c8"/>
                </a:solidFill>
                <a:latin typeface="Century Gothic"/>
              </a:rPr>
              <a:t>Oprogramowanie AV i firewall ?</a:t>
            </a: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cc"/>
                </a:solidFill>
                <a:latin typeface="Century Gothic"/>
              </a:rPr>
              <a:t>Rozwiązanie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2c8"/>
                </a:solidFill>
                <a:latin typeface="Century Gothic"/>
              </a:rPr>
              <a:t>3 x E, albo 3 x W</a:t>
            </a: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zy kluczowe etapy wprowadzenia polityki bezpieczeństwa treści w organizacji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tablish - Wdroż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ducate - Wykształcenie (użytkownikó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force - Wymuszenie (polityki bezpieczeństw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33360" y="3045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2c8"/>
                </a:solidFill>
                <a:latin typeface="Century Gothic"/>
              </a:rPr>
              <a:t>Zróżnicowanie polityki bezpieczeństwa</a:t>
            </a: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124000" y="2133720"/>
            <a:ext cx="1238400" cy="10857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763640" y="4797360"/>
            <a:ext cx="1476360" cy="10954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4500720" y="3068640"/>
            <a:ext cx="1171440" cy="1512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7391520" y="4800600"/>
            <a:ext cx="1280880" cy="16556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7238880" y="1905120"/>
            <a:ext cx="1403640" cy="10810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 rot="20113800">
            <a:off x="3564000" y="5084280"/>
            <a:ext cx="1008000" cy="271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7"/>
          <a:stretch/>
        </p:blipFill>
        <p:spPr>
          <a:xfrm rot="1109400">
            <a:off x="1476000" y="1969560"/>
            <a:ext cx="863640" cy="2318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8"/>
          <a:stretch/>
        </p:blipFill>
        <p:spPr>
          <a:xfrm rot="1156800">
            <a:off x="1403280" y="2491920"/>
            <a:ext cx="863640" cy="2318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9"/>
          <a:stretch/>
        </p:blipFill>
        <p:spPr>
          <a:xfrm rot="19432800">
            <a:off x="3276360" y="4581000"/>
            <a:ext cx="1008000" cy="270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0"/>
          <a:stretch/>
        </p:blipFill>
        <p:spPr>
          <a:xfrm>
            <a:off x="611280" y="1484280"/>
            <a:ext cx="1019160" cy="1152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1"/>
          <a:stretch/>
        </p:blipFill>
        <p:spPr>
          <a:xfrm rot="20064600">
            <a:off x="5651280" y="2781360"/>
            <a:ext cx="1906560" cy="5889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2"/>
          <a:stretch/>
        </p:blipFill>
        <p:spPr>
          <a:xfrm rot="2452200">
            <a:off x="5724000" y="4581360"/>
            <a:ext cx="1746360" cy="5162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3"/>
          <a:stretch/>
        </p:blipFill>
        <p:spPr>
          <a:xfrm rot="1747200">
            <a:off x="3492000" y="3068280"/>
            <a:ext cx="954360" cy="34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0880" y="1219320"/>
            <a:ext cx="8610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lityka bezpieczeństwa stworzona dla danego poziomu organizacyjnego jest dziedziczona przez poziomy niżs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 razie potrzeby polityka dla  poziomu niższego może mieć wyższy priorytet niż polityka ogól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żliwe jest wdrożenie polityki "prewencyjnej" dotyczącej całej organizacji a następnie dalsze jej uszczegóławianie w departamentach, działach, itp. - aż do poziomu konkretnych osób (jeśli jest taka potrzeb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2c8"/>
                </a:solidFill>
                <a:latin typeface="Century Gothic"/>
              </a:rPr>
              <a:t>Hierarchiczność i dziedziczenie</a:t>
            </a: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pic>
        <p:nvPicPr>
          <p:cNvPr id="190" name="granularpolicybasedrules" descr=""/>
          <p:cNvPicPr/>
          <p:nvPr/>
        </p:nvPicPr>
        <p:blipFill>
          <a:blip r:embed="rId1"/>
          <a:stretch/>
        </p:blipFill>
        <p:spPr>
          <a:xfrm>
            <a:off x="1905120" y="4038480"/>
            <a:ext cx="5209920" cy="2649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28800" y="152280"/>
            <a:ext cx="6477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2c8"/>
                </a:solidFill>
                <a:latin typeface="Century Gothic"/>
              </a:rPr>
              <a:t>Czyszczenie i rekompozycja</a:t>
            </a: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192" name=""/>
          <p:cNvSpPr/>
          <p:nvPr/>
        </p:nvSpPr>
        <p:spPr>
          <a:xfrm>
            <a:off x="2590920" y="2666880"/>
            <a:ext cx="198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ałączone archiwum ZIP zawiera dokumen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1600200"/>
            <a:ext cx="161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mail z załączniki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358128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</a:rPr>
              <a:t>Jeden z dokumentów jest zawirusow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38880" y="42670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czyszczen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67480" y="281952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dtworzenie archiwum Z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238880" y="1676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starczen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9880" y="601992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warantan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609588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owanie użytkowni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10080" y="47242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unięc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quarantine" descr=""/>
          <p:cNvPicPr/>
          <p:nvPr/>
        </p:nvPicPr>
        <p:blipFill>
          <a:blip r:embed="rId1"/>
          <a:stretch/>
        </p:blipFill>
        <p:spPr>
          <a:xfrm>
            <a:off x="3124080" y="5715000"/>
            <a:ext cx="739800" cy="914400"/>
          </a:xfrm>
          <a:prstGeom prst="rect">
            <a:avLst/>
          </a:prstGeom>
          <a:ln w="0">
            <a:noFill/>
          </a:ln>
        </p:spPr>
      </p:pic>
      <p:pic>
        <p:nvPicPr>
          <p:cNvPr id="202" name="zipfile" descr=""/>
          <p:cNvPicPr/>
          <p:nvPr/>
        </p:nvPicPr>
        <p:blipFill>
          <a:blip r:embed="rId2"/>
          <a:stretch/>
        </p:blipFill>
        <p:spPr>
          <a:xfrm>
            <a:off x="1371600" y="2743200"/>
            <a:ext cx="1066680" cy="765000"/>
          </a:xfrm>
          <a:prstGeom prst="rect">
            <a:avLst/>
          </a:prstGeom>
          <a:ln w="0">
            <a:noFill/>
          </a:ln>
        </p:spPr>
      </p:pic>
      <p:pic>
        <p:nvPicPr>
          <p:cNvPr id="203" name="mail" descr=""/>
          <p:cNvPicPr/>
          <p:nvPr/>
        </p:nvPicPr>
        <p:blipFill>
          <a:blip r:embed="rId3"/>
          <a:stretch/>
        </p:blipFill>
        <p:spPr>
          <a:xfrm>
            <a:off x="762120" y="1523880"/>
            <a:ext cx="555480" cy="604800"/>
          </a:xfrm>
          <a:prstGeom prst="rect">
            <a:avLst/>
          </a:prstGeom>
          <a:ln w="0">
            <a:noFill/>
          </a:ln>
        </p:spPr>
      </p:pic>
      <p:pic>
        <p:nvPicPr>
          <p:cNvPr id="204" name="mail" descr=""/>
          <p:cNvPicPr/>
          <p:nvPr/>
        </p:nvPicPr>
        <p:blipFill>
          <a:blip r:embed="rId4"/>
          <a:stretch/>
        </p:blipFill>
        <p:spPr>
          <a:xfrm>
            <a:off x="6705720" y="1523880"/>
            <a:ext cx="555480" cy="604800"/>
          </a:xfrm>
          <a:prstGeom prst="rect">
            <a:avLst/>
          </a:prstGeom>
          <a:ln w="0">
            <a:noFill/>
          </a:ln>
        </p:spPr>
      </p:pic>
      <p:pic>
        <p:nvPicPr>
          <p:cNvPr id="205" name="contentdocanalysis" descr=""/>
          <p:cNvPicPr/>
          <p:nvPr/>
        </p:nvPicPr>
        <p:blipFill>
          <a:blip r:embed="rId5"/>
          <a:stretch/>
        </p:blipFill>
        <p:spPr>
          <a:xfrm>
            <a:off x="2057400" y="4191120"/>
            <a:ext cx="1284120" cy="831600"/>
          </a:xfrm>
          <a:prstGeom prst="rect">
            <a:avLst/>
          </a:prstGeom>
          <a:ln w="0">
            <a:noFill/>
          </a:ln>
        </p:spPr>
      </p:pic>
      <p:pic>
        <p:nvPicPr>
          <p:cNvPr id="206" name="mail" descr=""/>
          <p:cNvPicPr/>
          <p:nvPr/>
        </p:nvPicPr>
        <p:blipFill>
          <a:blip r:embed="rId6"/>
          <a:stretch/>
        </p:blipFill>
        <p:spPr>
          <a:xfrm>
            <a:off x="1066680" y="5502240"/>
            <a:ext cx="555840" cy="6048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143000" y="541008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arrow" descr=""/>
          <p:cNvPicPr/>
          <p:nvPr/>
        </p:nvPicPr>
        <p:blipFill>
          <a:blip r:embed="rId7"/>
          <a:stretch/>
        </p:blipFill>
        <p:spPr>
          <a:xfrm>
            <a:off x="3124080" y="4343400"/>
            <a:ext cx="2000520" cy="536400"/>
          </a:xfrm>
          <a:prstGeom prst="rect">
            <a:avLst/>
          </a:prstGeom>
          <a:ln w="0">
            <a:noFill/>
          </a:ln>
        </p:spPr>
      </p:pic>
      <p:pic>
        <p:nvPicPr>
          <p:cNvPr id="209" name="arrow_left" descr=""/>
          <p:cNvPicPr/>
          <p:nvPr/>
        </p:nvPicPr>
        <p:blipFill>
          <a:blip r:embed="rId8"/>
          <a:stretch/>
        </p:blipFill>
        <p:spPr>
          <a:xfrm>
            <a:off x="1219320" y="4572000"/>
            <a:ext cx="822240" cy="914400"/>
          </a:xfrm>
          <a:prstGeom prst="rect">
            <a:avLst/>
          </a:prstGeom>
          <a:ln w="0">
            <a:noFill/>
          </a:ln>
        </p:spPr>
      </p:pic>
      <p:pic>
        <p:nvPicPr>
          <p:cNvPr id="210" name="arrow_right" descr=""/>
          <p:cNvPicPr/>
          <p:nvPr/>
        </p:nvPicPr>
        <p:blipFill>
          <a:blip r:embed="rId9"/>
          <a:stretch/>
        </p:blipFill>
        <p:spPr>
          <a:xfrm>
            <a:off x="2743200" y="4800600"/>
            <a:ext cx="800280" cy="903240"/>
          </a:xfrm>
          <a:prstGeom prst="rect">
            <a:avLst/>
          </a:prstGeom>
          <a:ln w="0">
            <a:noFill/>
          </a:ln>
        </p:spPr>
      </p:pic>
      <p:pic>
        <p:nvPicPr>
          <p:cNvPr id="211" name="zipfile" descr=""/>
          <p:cNvPicPr/>
          <p:nvPr/>
        </p:nvPicPr>
        <p:blipFill>
          <a:blip r:embed="rId10"/>
          <a:stretch/>
        </p:blipFill>
        <p:spPr>
          <a:xfrm>
            <a:off x="6400800" y="2666880"/>
            <a:ext cx="1066680" cy="765360"/>
          </a:xfrm>
          <a:prstGeom prst="rect">
            <a:avLst/>
          </a:prstGeom>
          <a:ln w="0">
            <a:noFill/>
          </a:ln>
        </p:spPr>
      </p:pic>
      <p:pic>
        <p:nvPicPr>
          <p:cNvPr id="212" name="arrow_up" descr=""/>
          <p:cNvPicPr/>
          <p:nvPr/>
        </p:nvPicPr>
        <p:blipFill>
          <a:blip r:embed="rId11"/>
          <a:stretch/>
        </p:blipFill>
        <p:spPr>
          <a:xfrm>
            <a:off x="7162920" y="2133720"/>
            <a:ext cx="342720" cy="1050840"/>
          </a:xfrm>
          <a:prstGeom prst="rect">
            <a:avLst/>
          </a:prstGeom>
          <a:ln w="0">
            <a:noFill/>
          </a:ln>
        </p:spPr>
      </p:pic>
      <p:pic>
        <p:nvPicPr>
          <p:cNvPr id="213" name="virus" descr=""/>
          <p:cNvPicPr/>
          <p:nvPr/>
        </p:nvPicPr>
        <p:blipFill>
          <a:blip r:embed="rId12"/>
          <a:stretch/>
        </p:blipFill>
        <p:spPr>
          <a:xfrm>
            <a:off x="5943600" y="3733920"/>
            <a:ext cx="1128600" cy="11509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095880" y="3962520"/>
            <a:ext cx="765360" cy="7110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arrow_up" descr=""/>
          <p:cNvPicPr/>
          <p:nvPr/>
        </p:nvPicPr>
        <p:blipFill>
          <a:blip r:embed="rId13"/>
          <a:stretch/>
        </p:blipFill>
        <p:spPr>
          <a:xfrm>
            <a:off x="6934320" y="3429000"/>
            <a:ext cx="342720" cy="1050840"/>
          </a:xfrm>
          <a:prstGeom prst="rect">
            <a:avLst/>
          </a:prstGeom>
          <a:ln w="0">
            <a:noFill/>
          </a:ln>
        </p:spPr>
      </p:pic>
      <p:pic>
        <p:nvPicPr>
          <p:cNvPr id="216" name="arrow_down2" descr=""/>
          <p:cNvPicPr/>
          <p:nvPr/>
        </p:nvPicPr>
        <p:blipFill>
          <a:blip r:embed="rId14"/>
          <a:stretch/>
        </p:blipFill>
        <p:spPr>
          <a:xfrm>
            <a:off x="1447920" y="3429000"/>
            <a:ext cx="606240" cy="1200240"/>
          </a:xfrm>
          <a:prstGeom prst="rect">
            <a:avLst/>
          </a:prstGeom>
          <a:ln w="0">
            <a:noFill/>
          </a:ln>
        </p:spPr>
      </p:pic>
      <p:pic>
        <p:nvPicPr>
          <p:cNvPr id="217" name="arrow_down2" descr=""/>
          <p:cNvPicPr/>
          <p:nvPr/>
        </p:nvPicPr>
        <p:blipFill>
          <a:blip r:embed="rId15"/>
          <a:stretch/>
        </p:blipFill>
        <p:spPr>
          <a:xfrm>
            <a:off x="685800" y="1905120"/>
            <a:ext cx="606600" cy="1199880"/>
          </a:xfrm>
          <a:prstGeom prst="rect">
            <a:avLst/>
          </a:prstGeom>
          <a:ln w="0">
            <a:noFill/>
          </a:ln>
        </p:spPr>
      </p:pic>
      <p:pic>
        <p:nvPicPr>
          <p:cNvPr id="218" name="arrow_right2" descr=""/>
          <p:cNvPicPr/>
          <p:nvPr/>
        </p:nvPicPr>
        <p:blipFill>
          <a:blip r:embed="rId16"/>
          <a:stretch/>
        </p:blipFill>
        <p:spPr>
          <a:xfrm>
            <a:off x="6019920" y="4800600"/>
            <a:ext cx="993600" cy="696960"/>
          </a:xfrm>
          <a:prstGeom prst="rect">
            <a:avLst/>
          </a:prstGeom>
          <a:ln w="0">
            <a:noFill/>
          </a:ln>
        </p:spPr>
      </p:pic>
      <p:pic>
        <p:nvPicPr>
          <p:cNvPr id="219" name="bin" descr=""/>
          <p:cNvPicPr/>
          <p:nvPr/>
        </p:nvPicPr>
        <p:blipFill>
          <a:blip r:embed="rId17"/>
          <a:stretch/>
        </p:blipFill>
        <p:spPr>
          <a:xfrm>
            <a:off x="5029200" y="4952880"/>
            <a:ext cx="639720" cy="800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2c8"/>
                </a:solidFill>
                <a:latin typeface="Century Gothic"/>
              </a:rPr>
              <a:t>Przykładowe wdrożenie - </a:t>
            </a:r>
            <a:r>
              <a:rPr b="1" lang="en-US" sz="2000" spc="-1" strike="noStrike">
                <a:solidFill>
                  <a:srgbClr val="0062c8"/>
                </a:solidFill>
                <a:latin typeface="Century Gothic"/>
              </a:rPr>
              <a:t>"case study"</a:t>
            </a:r>
            <a:endParaRPr b="1" lang="en-US" sz="20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82480" y="1312920"/>
            <a:ext cx="8359920" cy="526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czta wchodzą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ysp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anowanie słownikowe - "profanity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anowanie antywirusowe dwoma programami AV (równoleg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czta wychodzą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anowanie słownikowe na słowa kluczowe ("poufne", "tajne"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ierz uprawnień "kto - do kogo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anowanie antywirusowe dwoma programami AV (równoleg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różnicowanie polity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szystkich pracowników obowiązują te same reguł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yjątki: wybrani pracownicy IT, zarząd fi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ortowanie (np. statystyki wirusó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09480" y="2819520"/>
            <a:ext cx="80773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2c8"/>
                </a:solidFill>
                <a:latin typeface="Century Gothic"/>
              </a:rPr>
              <a:t>Rodzina produktów MIMEsweeper</a:t>
            </a: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0" y="3276720"/>
            <a:ext cx="3962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Lsweeper for Ex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Lsweeper for Dom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CS_ExchangeBox_mini" descr=""/>
          <p:cNvPicPr/>
          <p:nvPr/>
        </p:nvPicPr>
        <p:blipFill>
          <a:blip r:embed="rId1"/>
          <a:stretch/>
        </p:blipFill>
        <p:spPr>
          <a:xfrm>
            <a:off x="685800" y="3276720"/>
            <a:ext cx="647640" cy="838080"/>
          </a:xfrm>
          <a:prstGeom prst="rect">
            <a:avLst/>
          </a:prstGeom>
          <a:ln w="0">
            <a:noFill/>
          </a:ln>
        </p:spPr>
      </p:pic>
      <p:pic>
        <p:nvPicPr>
          <p:cNvPr id="226" name="CS_ExchangeBox_mini" descr=""/>
          <p:cNvPicPr/>
          <p:nvPr/>
        </p:nvPicPr>
        <p:blipFill>
          <a:blip r:embed="rId2"/>
          <a:stretch/>
        </p:blipFill>
        <p:spPr>
          <a:xfrm>
            <a:off x="1371600" y="3276720"/>
            <a:ext cx="647640" cy="8380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85800" y="28195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1371600"/>
            <a:ext cx="80773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13716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62320" y="1811160"/>
            <a:ext cx="3962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Lsweeper for SMT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swee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CS_WEBsweeperBox_mini" descr=""/>
          <p:cNvPicPr/>
          <p:nvPr/>
        </p:nvPicPr>
        <p:blipFill>
          <a:blip r:embed="rId3"/>
          <a:stretch/>
        </p:blipFill>
        <p:spPr>
          <a:xfrm>
            <a:off x="1422360" y="1828800"/>
            <a:ext cx="635040" cy="8222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09480" y="4267080"/>
            <a:ext cx="8077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0" y="44956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Swee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42670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P &amp; A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5105520"/>
            <a:ext cx="80773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0" y="5562720"/>
            <a:ext cx="39625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RETswee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AGE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5105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tegic Exten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CS_IMAGEmanagerBox" descr=""/>
          <p:cNvPicPr/>
          <p:nvPr/>
        </p:nvPicPr>
        <p:blipFill>
          <a:blip r:embed="rId4"/>
          <a:stretch/>
        </p:blipFill>
        <p:spPr>
          <a:xfrm>
            <a:off x="736560" y="1828800"/>
            <a:ext cx="635040" cy="822240"/>
          </a:xfrm>
          <a:prstGeom prst="rect">
            <a:avLst/>
          </a:prstGeom>
          <a:ln w="0">
            <a:noFill/>
          </a:ln>
        </p:spPr>
      </p:pic>
      <p:pic>
        <p:nvPicPr>
          <p:cNvPr id="239" name="CS_IMAGEmanagerBox" descr=""/>
          <p:cNvPicPr/>
          <p:nvPr/>
        </p:nvPicPr>
        <p:blipFill>
          <a:blip r:embed="rId5"/>
          <a:stretch/>
        </p:blipFill>
        <p:spPr>
          <a:xfrm>
            <a:off x="685800" y="5562720"/>
            <a:ext cx="635040" cy="822240"/>
          </a:xfrm>
          <a:prstGeom prst="rect">
            <a:avLst/>
          </a:prstGeom>
          <a:ln w="0">
            <a:noFill/>
          </a:ln>
        </p:spPr>
      </p:pic>
      <p:pic>
        <p:nvPicPr>
          <p:cNvPr id="240" name="CS_IMAGEmanagerBox" descr=""/>
          <p:cNvPicPr/>
          <p:nvPr/>
        </p:nvPicPr>
        <p:blipFill>
          <a:blip r:embed="rId6"/>
          <a:stretch/>
        </p:blipFill>
        <p:spPr>
          <a:xfrm>
            <a:off x="1371600" y="5578560"/>
            <a:ext cx="635040" cy="822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2c8"/>
                </a:solidFill>
                <a:latin typeface="Century Gothic"/>
              </a:rPr>
              <a:t>Agenda</a:t>
            </a: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zegląd zagadnień "Content Security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uka w korporacyjnych systemach zabezpiecze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związ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erta Clearswi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2c8"/>
                </a:solidFill>
                <a:latin typeface="Century Gothic"/>
              </a:rPr>
              <a:t>Produkty Clearswift</a:t>
            </a: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242" name=""/>
          <p:cNvSpPr/>
          <p:nvPr/>
        </p:nvSpPr>
        <p:spPr>
          <a:xfrm>
            <a:off x="4495680" y="1954080"/>
            <a:ext cx="4648320" cy="39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213"/>
              </a:spcBef>
              <a:spcAft>
                <a:spcPts val="213"/>
              </a:spcAft>
              <a:buClr>
                <a:srgbClr val="0057d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Kontrola poczty na głównej bram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2239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57d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MAILsweeper for SM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2239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57d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IMAGE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2239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57d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SECRETswee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2239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57d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eSwee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213"/>
              </a:spcBef>
              <a:spcAft>
                <a:spcPts val="213"/>
              </a:spcAft>
              <a:buClr>
                <a:srgbClr val="0057d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Kontrola ruchu WWW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2239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57d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WEBswee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213"/>
              </a:spcBef>
              <a:spcAft>
                <a:spcPts val="213"/>
              </a:spcAft>
              <a:buClr>
                <a:srgbClr val="0057d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Kontrola poczty wewnętrznej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2239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57d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MAILsweeper for Ex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8440" indent="-22392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57d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MAILsweeper for Domi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0057d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buClr>
                <a:srgbClr val="0057d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995640" y="1268280"/>
            <a:ext cx="3381480" cy="8906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1270080"/>
            <a:ext cx="3735360" cy="55879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4343400" y="2286000"/>
            <a:ext cx="446040" cy="4208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4343400" y="3733920"/>
            <a:ext cx="428760" cy="4204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4343400" y="4343400"/>
            <a:ext cx="439560" cy="422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6091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ajwiększy dostawca rozwiązań Content Secur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4,000+ klientó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4 millionów+ użytkownikó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0 z 64 najwiekszych bankó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szystkie z 10 nawiększych firm prawnicz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0% firm z FTSE 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0% firm z grupy Global 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2c8"/>
                </a:solidFill>
                <a:latin typeface="Century Gothic"/>
              </a:rPr>
              <a:t>Referencje</a:t>
            </a: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250" name=""/>
          <p:cNvSpPr/>
          <p:nvPr/>
        </p:nvSpPr>
        <p:spPr>
          <a:xfrm>
            <a:off x="609480" y="160020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2c8"/>
                </a:solidFill>
                <a:latin typeface="Century Gothic"/>
              </a:rPr>
              <a:t>Clearswif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16720" y="1492200"/>
            <a:ext cx="39355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ontrola paszportowa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ontrola dostę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5470560"/>
            <a:ext cx="3962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Kt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chodzi i wychodzi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do/z siec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2c8"/>
                </a:solidFill>
                <a:latin typeface="Century Gothic"/>
              </a:rPr>
              <a:t>Kontrola dostępu kontra Content Security</a:t>
            </a:r>
            <a:endParaRPr b="1" lang="en-US" sz="2400" spc="-1" strike="noStrike">
              <a:solidFill>
                <a:srgbClr val="0062c8"/>
              </a:solidFill>
              <a:latin typeface="Century Gothic"/>
            </a:endParaRPr>
          </a:p>
        </p:txBody>
      </p:sp>
      <p:pic>
        <p:nvPicPr>
          <p:cNvPr id="97" name="manager" descr=""/>
          <p:cNvPicPr/>
          <p:nvPr/>
        </p:nvPicPr>
        <p:blipFill>
          <a:blip r:embed="rId1"/>
          <a:stretch/>
        </p:blipFill>
        <p:spPr>
          <a:xfrm>
            <a:off x="1219320" y="3440160"/>
            <a:ext cx="857160" cy="1589040"/>
          </a:xfrm>
          <a:prstGeom prst="rect">
            <a:avLst/>
          </a:prstGeom>
          <a:ln w="0">
            <a:noFill/>
          </a:ln>
        </p:spPr>
      </p:pic>
      <p:pic>
        <p:nvPicPr>
          <p:cNvPr id="98" name="passport_scan" descr=""/>
          <p:cNvPicPr/>
          <p:nvPr/>
        </p:nvPicPr>
        <p:blipFill>
          <a:blip r:embed="rId2"/>
          <a:stretch/>
        </p:blipFill>
        <p:spPr>
          <a:xfrm>
            <a:off x="2362320" y="2819520"/>
            <a:ext cx="1212840" cy="22190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97120" y="1492200"/>
            <a:ext cx="2845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ontrola Celna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ent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5470560"/>
            <a:ext cx="3429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C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nosi i wynosi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do/z siec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54760" y="3397320"/>
            <a:ext cx="69696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57d6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2c8"/>
                </a:solidFill>
                <a:latin typeface="Century Gothic"/>
              </a:rPr>
              <a:t>Kontrola dostępu kontra Content Security</a:t>
            </a:r>
            <a:endParaRPr b="1" lang="en-US" sz="2400" spc="-1" strike="noStrike">
              <a:solidFill>
                <a:srgbClr val="0062c8"/>
              </a:solidFill>
              <a:latin typeface="Century Gothic"/>
            </a:endParaRPr>
          </a:p>
        </p:txBody>
      </p:sp>
      <p:pic>
        <p:nvPicPr>
          <p:cNvPr id="103" name="manager" descr=""/>
          <p:cNvPicPr/>
          <p:nvPr/>
        </p:nvPicPr>
        <p:blipFill>
          <a:blip r:embed="rId1"/>
          <a:stretch/>
        </p:blipFill>
        <p:spPr>
          <a:xfrm>
            <a:off x="1219320" y="3440160"/>
            <a:ext cx="857160" cy="1589040"/>
          </a:xfrm>
          <a:prstGeom prst="rect">
            <a:avLst/>
          </a:prstGeom>
          <a:ln w="0">
            <a:noFill/>
          </a:ln>
        </p:spPr>
      </p:pic>
      <p:pic>
        <p:nvPicPr>
          <p:cNvPr id="104" name="manager" descr=""/>
          <p:cNvPicPr/>
          <p:nvPr/>
        </p:nvPicPr>
        <p:blipFill>
          <a:blip r:embed="rId2"/>
          <a:stretch/>
        </p:blipFill>
        <p:spPr>
          <a:xfrm>
            <a:off x="5105520" y="3440160"/>
            <a:ext cx="857160" cy="1589040"/>
          </a:xfrm>
          <a:prstGeom prst="rect">
            <a:avLst/>
          </a:prstGeom>
          <a:ln w="0">
            <a:noFill/>
          </a:ln>
        </p:spPr>
      </p:pic>
      <p:pic>
        <p:nvPicPr>
          <p:cNvPr id="105" name="passport_scan" descr=""/>
          <p:cNvPicPr/>
          <p:nvPr/>
        </p:nvPicPr>
        <p:blipFill>
          <a:blip r:embed="rId3"/>
          <a:stretch/>
        </p:blipFill>
        <p:spPr>
          <a:xfrm>
            <a:off x="2362320" y="2819520"/>
            <a:ext cx="1212840" cy="2219040"/>
          </a:xfrm>
          <a:prstGeom prst="rect">
            <a:avLst/>
          </a:prstGeom>
          <a:ln w="0">
            <a:noFill/>
          </a:ln>
        </p:spPr>
      </p:pic>
      <p:pic>
        <p:nvPicPr>
          <p:cNvPr id="106" name="passport_scan" descr=""/>
          <p:cNvPicPr/>
          <p:nvPr/>
        </p:nvPicPr>
        <p:blipFill>
          <a:blip r:embed="rId4"/>
          <a:stretch/>
        </p:blipFill>
        <p:spPr>
          <a:xfrm>
            <a:off x="6858000" y="2809800"/>
            <a:ext cx="1212840" cy="2219400"/>
          </a:xfrm>
          <a:prstGeom prst="rect">
            <a:avLst/>
          </a:prstGeom>
          <a:ln w="0">
            <a:noFill/>
          </a:ln>
        </p:spPr>
      </p:pic>
      <p:pic>
        <p:nvPicPr>
          <p:cNvPr id="107" name="suitcase" descr=""/>
          <p:cNvPicPr/>
          <p:nvPr/>
        </p:nvPicPr>
        <p:blipFill>
          <a:blip r:embed="rId5"/>
          <a:stretch/>
        </p:blipFill>
        <p:spPr>
          <a:xfrm>
            <a:off x="5867280" y="4292640"/>
            <a:ext cx="866880" cy="584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52280" y="5470560"/>
            <a:ext cx="39625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Kt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chodzi i wychodzi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do/z siec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6720" y="1492200"/>
            <a:ext cx="39355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ontrola paszportowa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ontrola dostę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2c8"/>
                </a:solidFill>
                <a:latin typeface="Century Gothic"/>
              </a:rPr>
              <a:t>Wykorzystanie poczty elektronicznej</a:t>
            </a: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rwioobieg współczesnego przedsiębiorst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wałtowny wzrost liczby przesył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wałtowny wzrost  rozmiaru przesyłek - załączniki!       (3-5 krotny przyrost w ciągu roku [Ferris]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ża firma - 4,000 użytkownik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0 000 wiadomości z Internetu dzien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40 000 wiadomości w poczcie wewnętrznej dzien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e można oczekiwać określonych zachowań pracowników (np. nie otwierać podejrzanych załącznikó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2c8"/>
                </a:solidFill>
                <a:latin typeface="Century Gothic"/>
              </a:rPr>
              <a:t>Wykorzystnie usług Web</a:t>
            </a: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stęp pracowników do serwisów WWW w przeważającej liczbie przypadków jest wymag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"Z dobrodziejstwem inwentarza" uzyskują dostęp do: usług WebMail, anonimowych proxy oraz innych "interesujących" serwis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0% prywatnych transakcji e-commerce jest wykonywanych w miejscu i godzinach pracy (ID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 firmie zatrudniającej 1 000 użytkowników,  jedna godzina "surfowania" dziennie to strata 35 mln $ rocznie dla firmy (Saratoga Inst Human Resour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2c8"/>
                </a:solidFill>
                <a:latin typeface="Century Gothic"/>
              </a:rPr>
              <a:t>Ryzyko</a:t>
            </a: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004320" cy="64767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248520" y="1665360"/>
            <a:ext cx="2133360" cy="36828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72200" y="1666800"/>
            <a:ext cx="2841480" cy="3373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dpowiedzialność praw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73920" y="4687920"/>
            <a:ext cx="649080" cy="32076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48360" y="4684680"/>
            <a:ext cx="1000080" cy="3373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p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5165640"/>
            <a:ext cx="1936800" cy="33660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5181480"/>
            <a:ext cx="2514600" cy="3373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rata produktywnoś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16640" y="5646600"/>
            <a:ext cx="2209680" cy="35100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08720" y="5662440"/>
            <a:ext cx="2598840" cy="3373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rata wydajnoś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30440" y="1654200"/>
            <a:ext cx="1197000" cy="37944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6040" y="1668600"/>
            <a:ext cx="2667240" cy="3373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chrona antywirusow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77960" y="2125800"/>
            <a:ext cx="1600200" cy="3823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4440" y="2131920"/>
            <a:ext cx="1233720" cy="3373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ufnoś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2630520"/>
            <a:ext cx="1538280" cy="3571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6520" y="2629080"/>
            <a:ext cx="1851120" cy="3373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dpow. praw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920" y="3086280"/>
            <a:ext cx="1584360" cy="37296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200" y="3117960"/>
            <a:ext cx="1874880" cy="3373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ści obraźliw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0160" y="4199040"/>
            <a:ext cx="982800" cy="3571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199040"/>
            <a:ext cx="1874880" cy="3373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łowni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7880" y="4686480"/>
            <a:ext cx="1311120" cy="3427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480" y="4656240"/>
            <a:ext cx="1874520" cy="3373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aliza obraz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5320" y="5157720"/>
            <a:ext cx="1783080" cy="37476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197320"/>
            <a:ext cx="2324160" cy="3373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aliza typu dany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41360" y="5654520"/>
            <a:ext cx="1203480" cy="3589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360" y="5654520"/>
            <a:ext cx="2392560" cy="337320"/>
          </a:xfrm>
          <a:prstGeom prst="rect">
            <a:avLst/>
          </a:prstGeom>
          <a:solidFill>
            <a:srgbClr val="e4e4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ykrycie enkrypcj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 rot="571200">
            <a:off x="1891800" y="2951280"/>
            <a:ext cx="5815080" cy="175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olls Royce wyrzuca 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sób za nadużycie pocz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lektroniczne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VNUnet.com Maj 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22160" y="2163600"/>
            <a:ext cx="7594920" cy="175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Pracownik Della wyrzucony 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rozpowszechnainie pornografii przez e-mail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Black"/>
              </a:rPr>
              <a:t>www.silicon.com, Lipiec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951600">
            <a:off x="329760" y="2882880"/>
            <a:ext cx="854712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Gigant telekomunikacyjny Orange wyrzu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z pracy 30 - 40 osób za sciąganie  materiałó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pornograficznych z Internetu i rozpowszechni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ich wewnątrz firmy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www.msn.co.uk, Sierp.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71440" y="3208320"/>
            <a:ext cx="6821640" cy="201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inisterstwo Obrony Wlk. Brytani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zawiesza pracowników, któr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ciągneli z internetu 170,0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lików z pornografi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he Times,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20750400">
            <a:off x="382680" y="3406320"/>
            <a:ext cx="8761320" cy="21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Cywilna pracownica londyńskiej policj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uzyskuje w sądzie £40,000  odszkodowania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tytułu e-mailowego molestowan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seksualnego przez kolegę z p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Black"/>
              </a:rPr>
              <a:t>       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 Black"/>
              </a:rPr>
              <a:t>www.theregister.co.uk, Lipiec 20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951600">
            <a:off x="1580760" y="2322360"/>
            <a:ext cx="685800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crosoft zhakow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akerzy włamali się poprzez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"konia trojańskiego" w przesyłce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NET.com Październik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52480" y="304920"/>
            <a:ext cx="6782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2c8"/>
                </a:solidFill>
                <a:latin typeface="Century Gothic"/>
              </a:rPr>
              <a:t>Złe publ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2c8"/>
                </a:solidFill>
                <a:latin typeface="Century Gothic"/>
              </a:rPr>
              <a:t>Content Security</a:t>
            </a:r>
            <a:endParaRPr b="1" lang="en-US" sz="2800" spc="-1" strike="noStrike">
              <a:solidFill>
                <a:srgbClr val="0062c8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44792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ymagania dotyczące ochrony treśc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hrona własności intelektualne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siness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sta klient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yniki finans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ny strategicz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ne informacje poufne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chrona jest wymagana, gdyż problem stanowi mobilność treśc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95280" y="54547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Kto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przesyła 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co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i do </a:t>
            </a: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kog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11:36:22Z</dcterms:created>
  <dc:creator>philipr</dc:creator>
  <dc:description/>
  <dc:language>en-US</dc:language>
  <cp:lastModifiedBy>gb</cp:lastModifiedBy>
  <dcterms:modified xsi:type="dcterms:W3CDTF">2003-02-20T18:41:46Z</dcterms:modified>
  <cp:revision>125</cp:revision>
  <dc:subject/>
  <dc:title>No Slide Title</dc:title>
</cp:coreProperties>
</file>